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30F-9CC8-4EEB-8267-A64E01BD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D97-811C-4BE3-9D20-6FC62031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5F1-65A5-4E09-93DD-39A71A69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7CD-54DA-40D3-BA0F-1016243F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B34-CE70-4310-89F2-B9F4927C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648-08E0-4168-B672-CA859CE1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A28-CCD6-4025-9EF2-897D04C9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C7D-3B03-43A8-A683-D692C274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D69-EDB5-4908-BDFA-AD501136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AA9-A958-477C-B469-73E06845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FBE-D935-4440-8F43-FBC7031E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F64-690D-4BE5-81B4-71A4DA1E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E6D2-B7B8-40B1-81AE-6BC7B3065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mb@sanger.ac.uk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mod.org/wiki/GBrowse_2.0_HOWTO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anger.ac.uk/genetics/CGP/cosmic" TargetMode="External"/><Relationship Id="rId2" Type="http://schemas.openxmlformats.org/officeDocument/2006/relationships/hyperlink" Target="http://www.sanger.ac.uk/fgb2/gbrowse/cosmic" TargetMode="External"/><Relationship Id="rId3" Type="http://schemas.openxmlformats.org/officeDocument/2006/relationships/hyperlink" Target="http://www.sanger.ac.uk/fgb2/gbrowse/cosmic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MIC GBrow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sing cancer mutations in genomic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971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e Be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mb@sanger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r Genom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come Trust Sanger Institute, Hinxton, Cambridge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Detail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7631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Zoom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85341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Mutation Detail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8458200" cy="251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8502840" cy="1960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191120" y="2286000"/>
            <a:ext cx="198108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Break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5991120" cy="3962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43200" y="5638680"/>
            <a:ext cx="6058080" cy="88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 flipV="1">
            <a:off x="2666880" y="1828800"/>
            <a:ext cx="365760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81516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5181480"/>
            <a:ext cx="5105520" cy="1373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 flipV="1">
            <a:off x="2285640" y="1905120"/>
            <a:ext cx="579132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029200" cy="469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24080" y="5867280"/>
            <a:ext cx="5473800" cy="64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H="1" flipV="1">
            <a:off x="1904760" y="1752120"/>
            <a:ext cx="5562360" cy="449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 Number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5867280"/>
            <a:ext cx="7772400" cy="47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6553440" cy="2368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flipV="1">
            <a:off x="5333760" y="4800600"/>
            <a:ext cx="2514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5800" y="1676520"/>
            <a:ext cx="75420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828800" y="1676520"/>
            <a:ext cx="3886200" cy="1649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5334120" y="3352320"/>
            <a:ext cx="152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 cosmic gbrowse in some cosmic web pag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place old and slow draw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xtend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version is a summarised view of whole cosmic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e need to be able to display subset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display all mutations for a specific sample or group of samples, or from a specific tissue or tumour 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any for a static list of data sources, but there is a neat trick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data source in the URL, eg sample COLO-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sanger.ac.uk/fgb2/gbrowse/sample_</a:t>
            </a: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COLO-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.conf … 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N W3"/>
              </a:rPr>
              <a:t>_x0019_(need atleast 2.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mod.org/wiki/GBrowse_2.0_HOW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Using Pipes in the GBrowse.conf Data Source Name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[=~sample_.+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description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Database v48 (sample fil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path         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gbrowse/bin/source_config.pl -sample $1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ath points to a script which generates the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ample name ‘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 is passed to the script from 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track configuration generated for data source  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[Mutation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remote feature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…/cosmic_export.cgi?sample=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cgi script returns COLO-829 mutation data from 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fixes/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fea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l callbacks cannot be used until Safe::World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_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l callbacks defined with init_code not accessible from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M/SAM read sorting by similarity to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plots can give &gt;100%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: Cancer Genome Project (C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: Catalogue Of Somatic Mutations In Cancer  - 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cle database and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genetics/CGP/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s of muta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Literature (cura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Other database(s)  eg TP53 (I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Agency for Research on Can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equencing/mutation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COSMIC GBrowse  (22nd September?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anger.ac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k/fgb2/gbrowse/cos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700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P committed to using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internal browser for next gen sequenc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xternal browser for COSM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ic view of mutations, breakpoints and copy numb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MIC GBrowse to be released soon  - 22/9/2010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P involvement in GBrows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new developer recru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details still being discu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C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   -  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Simon Forb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ingming Jia, Rebecca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- Nidhi Bindal, [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Prasad Gunaseka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 IT Group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Kairan Ra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on Teague, Adam But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Support Group: Tim Cu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A team: Tony We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Team: James Smith, Paul Be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Gmod-gbrowse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and C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. How could we visualise the data deluge from next generation sequenc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Keiran Raine GMOD presentation in January 201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ar instant solution to the problem (days/weeks, rather than months/years for an in house solu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. COSMIC was designed to be gene centric but what about sequencing whole cancer genomes and visualising mutations in genomic cont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680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5 Virtual Machines [Debian Linux, 2G RAM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 + master + renderfarm slaves (2) + Postgre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apache 2.2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od_fastcgi 2.4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gbrowse 2.13 [perl 5.10.0 +  bioperl 1.61 + bio::graphics 2.1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ostgre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bases: ‘Reference’ and ‘Cosmi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cripts to query/format/populate these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ference genome (GRCh37) + cytogenetic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nsembl annotations (e! 5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Cosmic Tran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utations (subsitutions, insertions/dele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arran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Copy Number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SNP6 microarray data over 800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samples which have copy number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mplification, homozygous deletion, LOH,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c css/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l callba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gly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popups/toolt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rfarm  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Render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698760" cy="107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698400" cy="1074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8120" y="3657600"/>
            <a:ext cx="698400" cy="1074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010280" y="4648320"/>
            <a:ext cx="1676520" cy="1214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5029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6553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715000" y="5943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35268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75248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924680" y="5943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400800" y="3657600"/>
            <a:ext cx="698400" cy="107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76720" y="2286000"/>
            <a:ext cx="1371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9625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v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8862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Slav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724280" y="4648320"/>
            <a:ext cx="1774800" cy="1218960"/>
            <a:chOff x="4724280" y="4648320"/>
            <a:chExt cx="1774800" cy="1218960"/>
          </a:xfrm>
        </p:grpSpPr>
        <p:sp>
          <p:nvSpPr>
            <p:cNvPr id="71" name=""/>
            <p:cNvSpPr/>
            <p:nvPr/>
          </p:nvSpPr>
          <p:spPr>
            <a:xfrm>
              <a:off x="4724280" y="4648320"/>
              <a:ext cx="1774800" cy="12189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75200" y="50292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ferenced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909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Select Track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7631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Overview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52280" y="2209680"/>
            <a:ext cx="8686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19:22Z</dcterms:created>
  <dc:creator>Sanger Institute</dc:creator>
  <dc:description/>
  <dc:language>en-US</dc:language>
  <cp:lastModifiedBy>Sanger Institute</cp:lastModifiedBy>
  <dcterms:modified xsi:type="dcterms:W3CDTF">2010-09-12T20:53:08Z</dcterms:modified>
  <cp:revision>17</cp:revision>
  <dc:subject/>
  <dc:title>Cosmic GBrowse Visualising somatic mutations from the COSMIC database in genomic context</dc:title>
</cp:coreProperties>
</file>